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D0D-7EF2-4529-A848-8D130394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27EA-DCA1-45BA-A758-073D1D09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8C68-0239-4C12-BCF9-9D0A5172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553-0603-4914-B9CA-8FF277BB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EA6-F4CF-411A-8B92-0407C0D1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8EE-2D27-493F-93A1-818021FB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D93-7168-485D-83F5-AB77C7E2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3B8-8A6E-45FA-B3D1-3BF481A0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9EB-3B95-4C75-9A3C-BD1BBC52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E79-8AD4-4415-B575-74DE5E67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2931-DF29-48AE-993A-CE09BB80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F18-6269-4201-A7E2-0506A2D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311B-D704-4F8A-94AC-0B178256B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59080" y="5486400"/>
            <a:ext cx="170640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be implemen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6640" y="1027080"/>
            <a:ext cx="120960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PCS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5238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523880" y="15235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5800" y="2438280"/>
            <a:ext cx="190296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BATCH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2193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91840" y="1066680"/>
            <a:ext cx="118368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219320"/>
            <a:ext cx="0" cy="2133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8960" y="1752480"/>
            <a:ext cx="169416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90040" y="2438280"/>
            <a:ext cx="153540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89320" y="3200400"/>
            <a:ext cx="1172880" cy="3373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XP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1905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2590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352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335268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5520" y="33526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4114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4495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51280" y="3200400"/>
            <a:ext cx="127512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CCD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2000" y="3581280"/>
            <a:ext cx="149580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SDQPHIS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3080" y="3962520"/>
            <a:ext cx="136800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PHIPAR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2360" y="4343400"/>
            <a:ext cx="121536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B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472428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5105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486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5867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38160" y="4952880"/>
            <a:ext cx="1400040" cy="27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37080" y="5334120"/>
            <a:ext cx="1310040" cy="27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38160" y="5715000"/>
            <a:ext cx="1256760" cy="27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7200" y="3352680"/>
            <a:ext cx="1532520" cy="33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21480" y="28954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809880"/>
            <a:ext cx="0" cy="2057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5867280"/>
            <a:ext cx="43434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28954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4960" y="4419720"/>
            <a:ext cx="1383120" cy="276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OR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362320" y="289548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5486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94760" y="5210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5867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94760" y="5591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8120" y="347760"/>
            <a:ext cx="5146560" cy="226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6680" y="304920"/>
            <a:ext cx="1869480" cy="3682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5335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33520"/>
            <a:ext cx="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914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1295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676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0574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2438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0400" y="28954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2767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46483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6019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36320" y="406440"/>
            <a:ext cx="40838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application data, define some switches, create data &amp; dark ind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7040" y="762120"/>
            <a:ext cx="30092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ke sure saving directory exists, clear old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41360" y="1143000"/>
            <a:ext cx="43898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 if flatfield correction is needed, implement blemish file into user ma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37400" y="1523880"/>
            <a:ext cx="306720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dark image and calculate related parame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34520" y="1905120"/>
            <a:ext cx="49874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he data amount cannot be processed in a single step, decide where to split the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7040" y="2286000"/>
            <a:ext cx="29300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 main loop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(over all necessary data sect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27440" y="2760840"/>
            <a:ext cx="139392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itialize large ten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47960" y="3124080"/>
            <a:ext cx="459576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ad data, subtract dark, do lower level discrimination &amp;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create averaged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47960" y="3505320"/>
            <a:ext cx="4583520" cy="3985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image stack &amp;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 integrate all slices/frames, find indices of saturated pixels</a:t>
            </a:r>
            <a:br>
              <a:rPr sz="1000"/>
            </a:b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&amp; of pixels, which did not receive enough phot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4038480"/>
            <a:ext cx="253368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static q phi partition average tens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0" y="4419720"/>
            <a:ext cx="3740760" cy="5508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rporate saturated pixels in usermask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aIt     : time averaged intensity map &lt;I(q,t)&gt;_t (only o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 Iqphi : averaged intensity of static partitions of 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47960" y="5105520"/>
            <a:ext cx="26924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up the multi-tau correlation routine 'rawg2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47600" y="5486400"/>
            <a:ext cx="266328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al: setup of the standard norma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50120" y="5867280"/>
            <a:ext cx="3020040" cy="24624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in call of the multi-tau correlation routine 'rawg2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56386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647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5360" y="6248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19:10:40Z</dcterms:created>
  <dc:creator>Michael Sprung</dc:creator>
  <dc:description/>
  <dc:language>en-US</dc:language>
  <cp:lastModifiedBy>Michael Sprung</cp:lastModifiedBy>
  <dcterms:modified xsi:type="dcterms:W3CDTF">2005-11-02T18:15:41Z</dcterms:modified>
  <cp:revision>9</cp:revision>
  <dc:subject/>
  <dc:title>Slide 1</dc:title>
</cp:coreProperties>
</file>