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E93-A901-4475-973A-ED6188C7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6D0-9AA2-47F4-B938-43F2C24B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B24-9542-4631-99F5-9AA6DB55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00A-3E4D-4C72-AB71-B179B9A9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F97-7993-4C15-AB07-789DBFDA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EB3-2C56-4C1B-8C9B-09541C62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BB2-966F-4CF9-BD5B-3BE11852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440-39CE-4943-89B6-D648826B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5F5-B7BB-4A8E-8909-50C7BEF5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74A-1C58-4256-91CD-40E0DC04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B80-1434-4C9C-8197-C9F3F2F0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35A-0784-4098-92C2-9343FC3A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CA26-3E56-4B74-AE81-0E8B80730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59080" y="5486400"/>
            <a:ext cx="170640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e impl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6640" y="1027080"/>
            <a:ext cx="1209600" cy="3682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PCS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5238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523880" y="15235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5800" y="2438280"/>
            <a:ext cx="1902960" cy="3373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BATCH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2193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91840" y="1066680"/>
            <a:ext cx="1183680" cy="3373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219320"/>
            <a:ext cx="0" cy="21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88960" y="1752480"/>
            <a:ext cx="1694160" cy="3373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90040" y="2438280"/>
            <a:ext cx="1535400" cy="3373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89320" y="3200400"/>
            <a:ext cx="1172880" cy="3373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XP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905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590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3352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33526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33526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4114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495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280" y="3200400"/>
            <a:ext cx="1275120" cy="2764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CCDPI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2000" y="3581280"/>
            <a:ext cx="1495800" cy="2764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SDQPHI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3080" y="3962520"/>
            <a:ext cx="1368000" cy="2764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PHIPAR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2360" y="4343400"/>
            <a:ext cx="1215360" cy="2764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B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47242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54864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5867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38160" y="4952880"/>
            <a:ext cx="1400040" cy="276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37080" y="5334120"/>
            <a:ext cx="1310040" cy="276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38160" y="5715000"/>
            <a:ext cx="1256760" cy="276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7200" y="3352680"/>
            <a:ext cx="1532520" cy="33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21480" y="28954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3809880"/>
            <a:ext cx="0" cy="20574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5867280"/>
            <a:ext cx="43434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8954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4960" y="4419720"/>
            <a:ext cx="1383120" cy="2764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OR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362320" y="28954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54864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94760" y="521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5867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94760" y="5591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8120" y="347760"/>
            <a:ext cx="5146560" cy="226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6680" y="304920"/>
            <a:ext cx="1869480" cy="3682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33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533520"/>
            <a:ext cx="0" cy="19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9144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1295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676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20574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2438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28954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3276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4648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5257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6019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6320" y="406440"/>
            <a:ext cx="408384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application data, define some switches, create data &amp; dark ind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7040" y="762120"/>
            <a:ext cx="300924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ke sure saving directory exists, clear old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41360" y="1143000"/>
            <a:ext cx="438984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 if flatfield correction is needed, implement blemish file into user ma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7400" y="1523880"/>
            <a:ext cx="306720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dark image and calculate related 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4520" y="1905120"/>
            <a:ext cx="498744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e data amount cannot be processed in a single step, decide where to split th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7040" y="2286000"/>
            <a:ext cx="293004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 main loop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(over all necessary data sec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27440" y="2760840"/>
            <a:ext cx="139392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lize large ten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47960" y="3124080"/>
            <a:ext cx="459576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data, subtract dark, do lower level discrimination &amp;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create averaged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47960" y="3505320"/>
            <a:ext cx="4583520" cy="3985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image stack &amp;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integrate all slices/frames, find indices of saturated pixels</a:t>
            </a:r>
            <a:br>
              <a:rPr sz="1000"/>
            </a:b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&amp; of pixels, which did not receive enough phot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6520" y="4038480"/>
            <a:ext cx="253368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static q phi partition average ten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0" y="4419720"/>
            <a:ext cx="3740760" cy="5508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rporate saturated pixels in userma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It     : time averaged intensity map &lt;I(q,t)&gt;_t (only on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Iqphi : averaged intensity of static partitions of a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47960" y="5105520"/>
            <a:ext cx="269244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up the multi-tau correlation routine 'rawg2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47600" y="5486400"/>
            <a:ext cx="266328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al: setup of the standard norm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50120" y="5867280"/>
            <a:ext cx="302004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 call of the multi-tau correlation routine 'rawg2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5638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647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5360" y="6248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9:10:40Z</dcterms:created>
  <dc:creator>Michael Sprung</dc:creator>
  <dc:description/>
  <dc:language>en-US</dc:language>
  <cp:lastModifiedBy>Michael Sprung</cp:lastModifiedBy>
  <dcterms:modified xsi:type="dcterms:W3CDTF">2005-11-02T18:15:41Z</dcterms:modified>
  <cp:revision>9</cp:revision>
  <dc:subject/>
  <dc:title>Slide 1</dc:title>
</cp:coreProperties>
</file>